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png" ContentType="image/png"/>
  <Override PartName="/ppt/media/image3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4D1-8DC7-46A4-B64F-7448FD70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D06-E045-4373-BAFF-308F6C38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4685F-BAC6-4F99-875F-9C77B06E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33E4B-2903-4C5E-969F-77360733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C4EA2-21D7-4FBD-BFF5-F5066B18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F6FCA-7EE1-4CA9-B61B-0C2F7FB8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404FC-472E-4E88-B985-E3080DE4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E5001-7181-4EB7-8673-27E1664C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0653F-A452-4283-926A-083E38AC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FF379-0275-4CA6-8B18-8F6E0709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9B4EC-2849-4CD4-88A5-9ED10B89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046-61B0-44C2-9A99-D149495A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42B-4152-480E-90FE-CA5BDE94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0162-53E8-4101-8D70-955CDF98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AB47-5E5E-4499-8B17-BC93D8EF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604F-34C6-489B-98C4-01604EE2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C36A-BDAE-4FAD-A4C8-42B83222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E60B-A8BD-4E44-860A-78EECEF2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216E-662D-4694-B04E-C8D36B94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77C2-1A92-494E-A8D8-68575845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13B-CDAC-4582-813A-F2B5C200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133B-E1D1-4627-97F6-7AE0CADF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0013-34D3-44F8-AF43-CC583E1E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D9CF-4A36-4C5D-988B-BFAFD78C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A65F-7A0A-42BE-B213-241D9670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C2C1-C94B-4442-8A1D-D4C81C0A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6A16C-51B2-4053-875E-09C33E27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102F5-A488-4CFA-B623-422AA0D7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E436F-6881-401F-A57B-E67C2019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3FF89-BFEA-4BD0-BC3E-96343F16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D407A-02D9-4882-9576-2E9EF27D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C8E-D431-4889-80E2-85038D4C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64E63-BF76-4965-857F-FFB432E6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9D33E-7099-4A42-AB57-2B9BFBF4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8F110-8AA8-479C-B2CD-C0B3BEA5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764FE-C3CF-4BD2-859B-1CA94F8A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0E0A9-AB63-4AF4-888A-0F88508F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6FF66-765A-407D-8811-642E931D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66926-A3E8-43DA-8E55-B53EC1D1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CBB5E-A6DB-4FA7-8551-E3B565A5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BB472-AF00-4F05-80FF-FC104EE5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A1814-B16D-474D-84B1-CD8974AB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749-65AF-4CFF-99D1-E31E48C0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8DE2B-EED4-4E78-A834-943AE62B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4FEFE-BCBA-47D1-A8EC-0519B8DE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70698-8967-46CB-A52F-4452E393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9D129-E61B-4EF7-BAC2-FEC00152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1F4B9-7C59-4C65-AB03-636BC765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F2FE8-BABD-4D8F-A06D-960D637E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CD63-F539-4E47-BA8B-69393AFB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B479C-D1D4-440A-8C4A-C8B4EBF8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41281-CDF2-44E1-B6D4-B7544F7F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081BF-20BD-4EFC-A773-133CD864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C10-C5BE-4D0F-9C6A-9A413BB4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C0F2E-50CE-4E0C-988B-2C2984CB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F6D0F-B695-4503-9E73-64C684DE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7B803-A73E-4B68-A264-BBCFC219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93514-CD95-4B3F-B3FF-63D8EDCD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E4680-40C2-4ADC-AB2C-672B4563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741E1-7603-4D5A-93D0-972112CE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47C94-6E82-4896-956A-D123536C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30513-3359-49F0-80C1-CB77B05E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7BA24-16E4-4DFA-995A-E69D8A88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B51C5-D27E-4D80-9286-7B73F1E2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CBD-DD35-45E5-84F0-E5560E58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C0DC8-385C-48BD-9AF5-91194CAA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E47E2-EDC3-49B4-80AD-724499DD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63CEE-A121-42FD-A3B5-2D64E3C3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E2384-F54D-4EF6-AAC4-3CECCC92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A3EB4-67BF-493E-83D0-2D7CA58C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CD267-086E-4A57-9D75-FB44C7EB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9A5D0-751B-4F73-A9DD-DF50846D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BCE4F-1A04-4B8A-AF06-97F9AC93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0EF9D-6309-4EDC-8BCB-F249F94A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14816-BD03-4B56-874A-75603B11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E97-1A52-4E0A-9B58-DC7F60C5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A32D0-218E-44EE-B062-73622E93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AAA03-23A6-4AA7-A02B-3DCB71E3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9E202-5295-419E-A2DF-554355CC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5E14A-CCD9-420A-87B7-F3E80A7D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BDB9B-FDAE-4C94-83DA-2C4681D9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17874-61E0-4550-A87C-1FD25D80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56E69-07D8-417A-A368-5B5D5C34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58C31-E2AE-4084-91DB-B78736C6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76E9A-75EB-4C00-BFA8-D9852B38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343CE-DC64-42DE-9F02-2E68F9F8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123-2996-41DF-B63B-0D611AD9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13F3D-5EEB-4688-9FD0-E48F13DE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FC39D-52B0-4B3E-B695-C3E36458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3D737-E4C6-4B8D-B1E3-78F0B23E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D7657-BDBF-48F8-8BE4-C9E61933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72B94-934E-41EA-BBD2-954E7221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C9C7E-56CF-4096-ADC2-71CB153C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A383E-7AD8-4ABC-989D-6C54AB0D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AAFC1-F0E9-49E2-A149-D28C619F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0FB70-9341-4511-B3B1-6570760E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BBE61-A84E-4F03-8E34-D08E8921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5C6-0486-4595-AA24-0F2C4F43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4EE93-D222-4F68-B4F2-912D59AE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41DE6-0CF8-484C-A767-EF0F5650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266E5-4163-4F67-AC8D-B3321262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2353F-266E-485A-ABC1-06AF04FD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E9C31-CAC8-4859-8154-0FFAB6C4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100CA-38E5-4415-96EE-0242B4B5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D36A7-3746-4DFD-BC88-8A6E2E5B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CFFA1-91A9-43E4-BC1B-4EA54754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1B284-15C6-4E12-80AC-5EDE34CD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B7EE8-993E-446A-B6E5-70E6D321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338E-767B-4C27-B6B5-4CF6290BE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90D0-E0B9-4F93-98E1-1958B87512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A31D-3FD4-4C66-ADE2-98BB4A4B6F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6F34-C78A-449C-8834-029C6837E0C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90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957C-B870-4501-BD02-9F2CA5A8AC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0617-080A-4AA4-9551-AA5C1AD607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BB72-8D1A-406C-BB59-19B3FA29867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42BA-95A5-4D8C-A899-1D75A6CB707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BF34-F480-42E3-B0F7-A46BCF2F437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Бол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пародонта и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еких тк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5"/>
          <p:cNvSpPr/>
          <p:nvPr/>
        </p:nvSpPr>
        <p:spPr>
          <a:xfrm>
            <a:off x="1694880" y="685800"/>
            <a:ext cx="54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ФАКУЛТЕТ МЕДИЦИНСКИХ 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НИВЕРЗИТЕТ У КРАГУЈЕВ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7"/>
          <p:cNvSpPr/>
          <p:nvPr/>
        </p:nvSpPr>
        <p:spPr>
          <a:xfrm>
            <a:off x="1295280" y="3581280"/>
            <a:ext cx="746784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Arial"/>
              </a:rPr>
              <a:t>ОРОФАЦИЈАЛНИ Б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Предавање бр. 05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Arial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Arial"/>
              </a:rPr>
              <a:t> 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Тематске јединице: 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Болна стања пародонта (патофизиологија, клиничка слика, дијагноза, терапиј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Бол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ких тк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ол у вилицам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447920" y="54100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4617b"/>
                </a:solidFill>
                <a:latin typeface="Calibri"/>
              </a:rPr>
              <a:t>КЛИНИЧКА СЛИК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донтитис је подмукла болест која у почетним фазама показује оскудне симптоме и знакове. Тек у релативно касној фази, кад се појави повећана по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тљивост зуб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ацијент схв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 са зубом „нешто није у реду“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ам пародонтитис напредује тихо и без симптома, увек је праћен гингивитисом који има јасно видљиве знаке: крварење, црвенило и отеченост гингив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ако су ове промене јасно видљиве, оне се јављају без субјективних сметњи (бол, печењ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) па су их пацијенти склони дуже времена занемариват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јени пародонтитис може, али не мора, бити праћен неугодним задахом из уста, што пацијенти покушавају (често неуспешно) решити испирањем различитим антисептичким т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но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изостанка значајнијих сметњи, пацијенти се у највећем броју случајева јављају доктору тек кад уоче повећану помичности зуб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кад наступи јак бол узрокован пародонтним апсцесом. У таквим случајевима болест је већ знатно узнапредовала и оштећења су прилично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4617b"/>
                </a:solidFill>
                <a:latin typeface="Calibri"/>
              </a:rPr>
              <a:t>ДИЈАГНОЗ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5228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Дијагноза  се  успоставља на основ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Клиничког преглед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Радиографија – ортопантомографија и ретроалвеоларни снимц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Руб кости се код здравог зуба налази у нивоу његова врата, а корен је целом својом дужином смештен „унутар“ кост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Како пародонтитис напредује, руб кости се све више одмиче од зубног врата и повлачи у смеру врха корена, тако да део корена почиње „вирити“ изван к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КОМПЛИКАЦИЈЕ ПАРОДОНТ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родонт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л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и апсцес је изразито болна и хитна појава која настаје као последица нелеченог пародонтити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о је 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ормација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гноја који се ствара у пародонт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лн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м простору, а манифест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је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се као болн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от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у подручју корена захваћеног зу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ној настаје т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 јаке упалне реакције, а састоји се од распаднутих остатака бактерија и оштећеног тки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тоји и 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онични облик гнојне упале, који се не манифест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је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от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ом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д тог облика ствара се фистула  каналић кроз који гној от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е из подручја упале у усну шупљи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удући да гној слободно 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ренира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и не накупља се, не развија се апсцес, от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и б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5" descr=""/>
          <p:cNvPicPr/>
          <p:nvPr/>
        </p:nvPicPr>
        <p:blipFill>
          <a:blip r:embed="rId1"/>
          <a:stretch/>
        </p:blipFill>
        <p:spPr>
          <a:xfrm>
            <a:off x="5083200" y="1981080"/>
            <a:ext cx="3603600" cy="346716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6"/>
          <p:cNvSpPr/>
          <p:nvPr/>
        </p:nvSpPr>
        <p:spPr>
          <a:xfrm>
            <a:off x="5717160" y="579132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7d"/>
                </a:solidFill>
                <a:latin typeface="Arial"/>
              </a:rPr>
              <a:t>пародонтални апсц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4617b"/>
                </a:solidFill>
                <a:latin typeface="Calibri"/>
              </a:rPr>
              <a:t>ТЕРАПИЈА ПАРОДОНТИТИС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сваке терапије пародонт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н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болести је уклањање бактерија као главних узрочника упале. Како су главн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еста накупљањ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ктерија меке наслаге (зубни плак) и површине тврдих наслага (зубни каменац),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их ј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нити и спречити њихов поновни настанак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може бити конзервативна и хирурш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тивна подразумева механичко уклањање меких и тврдих наслага из гингивалних џепо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шка метода је индикована код узнапредовале болести и подразумева уклањање конкремената из дубоких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џепова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му је неопходно приказати корен зуба у потпуности одизањем мукопериосталног режња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4617b"/>
                </a:solidFill>
                <a:latin typeface="Calibri"/>
              </a:rPr>
              <a:t>БОЛНЕ ЛЕЗИЈЕ ОРАЛНЕ МУКОЗ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на шупљина представља јединствену целину чија је основна улога жвакање и гутање хране, те говор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љувачне жлезд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е се у њој налазе луче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љувачку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а има протективну улогу и важну улогу приликом прве фазе варења хране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на шупљина је обложена слуз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жо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ђеном од вишеслојног плочастог епитела чија је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свега заштитн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м што штити органе усне шупљине, слу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кож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 апсорпцију и ресорпцију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пречава нефизиолошку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ну материј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е стиму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учење штетних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ат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организм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з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ж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 има и  улогу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спознавању укус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ме је омогућен ужитак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устирањ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ране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се рећи да је усна шупљина показатељ здрављ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 хармоније и склада у устима као показатеља оралног здравља у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љ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је интактношћу оралног епитела, уравнотеженошћу оралне флоре, уредном функцијом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љувачних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лезда  али и оп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здравственим стањем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вањем овог склада на било којем од наведених нивоа има за последицу појаву оралних симптома и оралних болести које због своје специфичности могу угрозити свакодневне животне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ункције и навике човек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4617b"/>
                </a:solidFill>
                <a:latin typeface="Calibri"/>
              </a:rPr>
              <a:t>АКУТНА БОЛНА СТАЊА  ОРАЛНЕ МУКОЗ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nstantia"/>
              </a:rPr>
              <a:t>БОЛНЕ ЛЕЗИЈЕ ОРАЛНЕ МУКОЗЕ МОГУ СЕ КЛАСИФИКОВАТИ КА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ХЕИЛИТИС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АФТОЗНЕ УЛЦЕРАЦИ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ВИРУСНЕ ИНФЕКЦИ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БАКТЕРИЈСКЕ ИНФЕКЦИ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ГЉИВИЧНЕ ИНФЕКЦИ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ОРАЛНЕ МАНИФЕСТАЦИЈЕ АУТОИМУНИХ БОЛЕСТ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ОРАЛНЕ МАНИФЕСТАЦИЈЕ ЛЕУКЕМИ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4724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ХЕИ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ЕИЛИТИСИ - болести усана су  веома распрострањени. Могу да се јављају као самостална обољења или у неких општих обољења као пропратни симп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јчешћи је онај облик који се јавља у угловима усана-ангуларни хеилитис (тзв. жвал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зроци настанка могу бити разни(повреде усана, повећано лучење пљувацке, анемија, недостатак Б витамина, шећерна болест, инфекције) а увек се манифестује благим пецкањем и лепљењем у угловима усана због чега људи влаже усне језиком те дирају прстима и доводе до накнадне инфекције па се тако стање погорша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 јачем отварању углови усана пуцају и крваре што је веома бол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ред овог често се јавља и хеилитис изазван сунчевим зрацима- соларни хеилитис, који се карактерише изразитим увећањем и црвенилом ус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илитис може да настане и као алергијска реакција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алергијски хеилитис, при чему усне постају изузетно црвене и отеч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535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24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АФТОЗНЕ УЛЦЕР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АФТЕ се релативно често јављају у устима. Сматра се да сваки пети човек болује од афтозних лезиј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То су болне промене правилног облика, жућкасте боје, ограничене црвеним прстеном које се појављују у неправилним временским размаци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Узроци настанка су многобројни: наслеђе, повреде, хормонски поремећаји, пушење, бактерије и вируси, недостатак гвожђа, пад имунитета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Ове промене су веома непријатне и болне па отежавају нормално функционисањ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Лечење данас подразумева и примену диодних ласера којима се у једној посети оне потпуно отклањај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7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2895480" cy="19843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8" descr=""/>
          <p:cNvPicPr/>
          <p:nvPr/>
        </p:nvPicPr>
        <p:blipFill>
          <a:blip r:embed="rId2"/>
          <a:stretch/>
        </p:blipFill>
        <p:spPr>
          <a:xfrm>
            <a:off x="5257800" y="41148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333399"/>
                </a:solidFill>
                <a:latin typeface="Arial"/>
              </a:rPr>
              <a:t>ВИРУСНЕ ИНФЕКЦИЈЕ</a:t>
            </a:r>
            <a:br>
              <a:rPr sz="2800"/>
            </a:b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herpes si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ИРУСНЕ ИНФЕКЦИЈЕ се такође могу јављати у устима а најчешће су свакако оне које изазивају вируси из групе </a:t>
            </a:r>
            <a:r>
              <a:rPr b="0" lang="sr-C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</a:t>
            </a:r>
            <a:r>
              <a:rPr b="0" lang="sr-Latn-C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rpes simpl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мене се највише јављају на угловима усана-херпес лабиалис а могу се срести и на деснима и јез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кон првобитног печења, појављују се ситне везикуле испуњене течношћу које касније пуцају и остављају крастице. Промене су изузетно болне, непријатне и трају око 7 д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7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295360" cy="17524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8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629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99ff"/>
                </a:solidFill>
                <a:latin typeface="Arial"/>
              </a:rPr>
              <a:t>ВИРУСНЕ ИНФЕКЦИЈЕ - Х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АИДС</a:t>
            </a:r>
            <a:r>
              <a:rPr b="0" lang="en-US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је најтежа манифестација ХИВ инфекције  коју карактерише имунодефицијенција. Поред последица које се јављају у оквиру читавог организма, као јединственог система, долази   до битних промена и манифестација обољења и у оквиру ткива усне дупљ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Основни знаци који указују на постојање ХИВ инфекције јесу имфламација гингиве и степен о</a:t>
            </a:r>
            <a:r>
              <a:rPr b="1" lang="sr-CS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ш</a:t>
            </a:r>
            <a:r>
              <a:rPr b="1" lang="en-US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тећења потпорног апарата зуба. ХИВ гингивитис се одликује црвенилом гингиве са крварењем на најмањи додир, док пародонтитис има тако брзи развој и ток, да непосредно након манифестације обољења долази до расклаћења и губитка зуба. Поред деструкције пародонцијума, присутна је деструкција алвеоларне кости и јак фет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ајвећу пажњу свакако привлаче хроничне рецидивирајуће афте  које су херпетичног облика, а трају година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ајкарактеристичнији симптом АИДС-а у усној дупљи је присуство такозване власасте леукоплакије језика. Најчешћа локализација је бочна страна језика, са могућношћу ширења на целу површ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Инфекција се може пренети случајним убодом игле, или контаминацијом повредјене коже или слузокоже. Иако постоји ризик, могућност инфекције је минимална, јер је вирус ХИВ-а неотпоран на услове спољашње средине, и веома осетљив на уобичајне концентрације стандардних дезифицијена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2362320" cy="17064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"/>
          <p:cNvPicPr/>
          <p:nvPr/>
        </p:nvPicPr>
        <p:blipFill>
          <a:blip r:embed="rId2"/>
          <a:stretch/>
        </p:blipFill>
        <p:spPr>
          <a:xfrm>
            <a:off x="3048120" y="4800600"/>
            <a:ext cx="2714400" cy="1685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"/>
          <p:cNvPicPr/>
          <p:nvPr/>
        </p:nvPicPr>
        <p:blipFill>
          <a:blip r:embed="rId3"/>
          <a:stretch/>
        </p:blipFill>
        <p:spPr>
          <a:xfrm>
            <a:off x="6019920" y="4800600"/>
            <a:ext cx="2638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4617b"/>
                </a:solidFill>
                <a:latin typeface="Calibri"/>
              </a:rPr>
              <a:t>АКУТНА БОЛНА СТАЊА ПАРОДОНТА И ОРАЛНЕ МУКОЗЕ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Орофацијалн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бол чест је и дијагностички захтевна тегоб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Међу бројним узроцима орофацијалног бол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најчешћ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е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су болести зуба и пародонта, а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затим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и различите болести слуз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окоже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усне шупљине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Бол слуз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окоже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усне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дупље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пратећи је симптом различитих оштећења слуз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окоже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узрокованих локалним или 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општим факторима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Бол оштећене слуз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окоже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спада у категорију соматск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ог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површинск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ог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бол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и назива се мукогингивн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бол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Међутим, бол слуз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окоже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може бити присут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ан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и у одсутности патолошког налаз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Тада је реч о неуропатско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м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бол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кој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је последица оштећења дела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нервног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система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или је бол психогеног по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рекла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Бол слуз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окоже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усне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дупље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може бити и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проширен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(рефлексн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бол) из других делова тел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С обзиром на мноштво могућих узрока орофацијалн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ог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бол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, дијагностички је поступак сложен и захтева мултидисциплинарни приступ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Преду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слов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за постављање т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чне дијагнозе јест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е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познавање широког спектра дијагностичких карактеристика орофацијалн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ог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бол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, које укључује по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рекл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о и врсту бол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а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(соматск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, неуроген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и психоген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), трајање (акутн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роничн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) и механизме настанка бол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(ноцицепторск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, неуропатск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, психосоматск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) те њихово разликовање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БАКТЕРИЈСКЕ ИНФЕКЦИЈЕ УСНЕ ДУПЉЕ</a:t>
            </a:r>
            <a:br>
              <a:rPr sz="2400"/>
            </a:b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СКАРЛАТИНА - шар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рлатина 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лест која почиње као стрептококна анги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јчешћи је у дечјој доби, од 3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до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одине живо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Шарлах изазивају стрептококи који стварају еритрогени токси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чиње нагло, 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лом у грлу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главобољом, јарко црвеним ждрелом, повраћањем, ситно-т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кастим осипом и малинастим језиком, а пос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, т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 болести, долази до љуштења кож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почетку болести језик је обложен, а након неколико дана постаје боје малине, што је карактеристично за шарл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ечи се антибиотском терапиј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1"/>
          <a:stretch/>
        </p:blipFill>
        <p:spPr>
          <a:xfrm>
            <a:off x="762120" y="4724280"/>
            <a:ext cx="2438280" cy="1738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" descr=""/>
          <p:cNvPicPr/>
          <p:nvPr/>
        </p:nvPicPr>
        <p:blipFill>
          <a:blip r:embed="rId2"/>
          <a:stretch/>
        </p:blipFill>
        <p:spPr>
          <a:xfrm>
            <a:off x="3429000" y="4724280"/>
            <a:ext cx="2362320" cy="17067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6" descr=""/>
          <p:cNvPicPr/>
          <p:nvPr/>
        </p:nvPicPr>
        <p:blipFill>
          <a:blip r:embed="rId3"/>
          <a:stretch/>
        </p:blipFill>
        <p:spPr>
          <a:xfrm>
            <a:off x="5943600" y="47242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БАКТЕРИЈСКЕ ИНФЕКЦИЈЕ УСНЕ ДУПЉЕ</a:t>
            </a:r>
            <a:br>
              <a:rPr sz="2400"/>
            </a:b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еризипе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Црвени ветар или еризипел је акутно инфективно обољење коже коју проузрокује бактерија из фамилије стрептокока (стрептоцоццус бета хаемолyтхицус групе А), која у кожу доспева кроз мале повреде епите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јчешће се јавља на ногама или гла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д већине пацијента долази до брзог пораста телесне температуре, која може бити све до 40°</a:t>
            </a:r>
            <a:r>
              <a:rPr b="1" lang="sr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са интензивном грозницом</a:t>
            </a:r>
            <a:r>
              <a:rPr b="1" lang="sr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лавобољ</a:t>
            </a:r>
            <a:r>
              <a:rPr b="1" lang="sr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м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1" lang="sr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враћањ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кон 12 до 24 сата се јавља свраб и затезање коже захваћеног подручја, а након 24 сата јако црвенило, које се шири и уздиже од коже. Подручје коже које је захваћено црвеним ветром је топло, напето, затегнуто, сјајно, јасно истакнутих ивица, изразито црвено и бол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усној дупљи најчешће су захваћене тонзиле и меко непце са болним променама и јако отежаним гутањ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јефикаснији је пеницилин у дози од 1600000 и.ј. у трајању од минимум 10 д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21891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"/>
          <p:cNvPicPr/>
          <p:nvPr/>
        </p:nvPicPr>
        <p:blipFill>
          <a:blip r:embed="rId2"/>
          <a:stretch/>
        </p:blipFill>
        <p:spPr>
          <a:xfrm>
            <a:off x="5410080" y="3941640"/>
            <a:ext cx="3276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767ff"/>
                </a:solidFill>
                <a:latin typeface="Arial"/>
              </a:rPr>
              <a:t>ГЉИВИЧНА ОБОЉЕЊА СЛУЗОКОЖЕ УСНЕ ДУП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ндидијаза је гљивично обољење коже, слузокоже и ноктију изазвано гљивицама из рода 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ндида које у ретким случајевима може дов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сти до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истем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ког обољ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ндидијаза усне дупљ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oor, је најчешће присутна код одојчади и мале деце у виду беличастих наслага на језику и образној слузници, које имају изглед згрушаног млека. Испод наслага су ранице, које су болне и отежавају исхрану дец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д одраслих је обољење последица набројаних предиспонирају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ћ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х фактора, присутно у виду беличастих наслага, уз црвенило и благи от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д дужег трајања инфекције слуз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ожа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постаје сјајна, живо црвена без беличастих наслага. Код пуша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 се могу образовати дебеле беличасте наслаге на језику и образ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ндидијаза у угловима ус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ngulus infectiosus 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 често јавља код одраслих особа које носе проте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мене се обично шире са образне слузнице на усне углове у виду црвенила, љуспања, влажења и прскотина кож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ко дође до бактеријске суперинфекције промене постају јако бол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"/>
          <p:cNvPicPr/>
          <p:nvPr/>
        </p:nvPicPr>
        <p:blipFill>
          <a:blip r:embed="rId2"/>
          <a:stretch/>
        </p:blipFill>
        <p:spPr>
          <a:xfrm>
            <a:off x="1828800" y="495288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"/>
          <p:cNvPicPr/>
          <p:nvPr/>
        </p:nvPicPr>
        <p:blipFill>
          <a:blip r:embed="rId3"/>
          <a:stretch/>
        </p:blipFill>
        <p:spPr>
          <a:xfrm>
            <a:off x="380880" y="495288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0" descr=""/>
          <p:cNvPicPr/>
          <p:nvPr/>
        </p:nvPicPr>
        <p:blipFill>
          <a:blip r:embed="rId4"/>
          <a:stretch/>
        </p:blipFill>
        <p:spPr>
          <a:xfrm>
            <a:off x="4267080" y="495288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767ff"/>
                </a:solidFill>
                <a:latin typeface="Arial"/>
              </a:rPr>
              <a:t>АУТОИМУНЕ БОЛЕСТИ СА МАНИФЕСТАЦИЈАМА У УСНОЈ ДУПЉ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767ff"/>
                </a:solidFill>
                <a:latin typeface="Arial"/>
              </a:rPr>
              <a:t>Орални лихен рубер (Lichen ruber plan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еста је болест оралне слуз</a:t>
            </a:r>
            <a:r>
              <a:rPr b="1" lang="sr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оже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браја се у мукокутане аутоимуне боле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ешће обољевају жене и то средње и старије животне доб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лест је још увек неразјашњеног узро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воде се болести јетре, метаболичке болести и то </a:t>
            </a:r>
            <a:r>
              <a:rPr b="1" lang="sr-Latn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ебно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ди</a:t>
            </a:r>
            <a:r>
              <a:rPr b="1" lang="sr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бетес мелиту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лесници се </a:t>
            </a:r>
            <a:r>
              <a:rPr b="1" lang="sr-Latn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але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на неугодан осећај пецкања у устим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уз</a:t>
            </a:r>
            <a:r>
              <a:rPr b="1" lang="sr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ожа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уста је упаљена с налазом карактеристичних хиперкертотичних (задебљање рожнатог слоја епитела) стрија и пруг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линички се болест појављује у неколико облика: папуларни, ретикуларни, плак, ануларни, булозни, ерозивни, улцерозни што отежава дијагностику боле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линички постављена дијагноза се потврђује узимањем биопсијског узорка и патохистолошком дијагноз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з лечење основне болести као што је регулација дијабетеса у системској терапији се примењ</a:t>
            </a:r>
            <a:r>
              <a:rPr b="1" lang="sr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у антибиотици (пеницилини су лек избора), локално комбинације антибиотика и кортикостероида, кератолитици, деривати ретиноичне киселине и антимикотиц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тежим облицима болести нужна је и системска примена кортикостерои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762120" y="4952880"/>
            <a:ext cx="2209680" cy="1600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5" descr=""/>
          <p:cNvPicPr/>
          <p:nvPr/>
        </p:nvPicPr>
        <p:blipFill>
          <a:blip r:embed="rId2"/>
          <a:stretch/>
        </p:blipFill>
        <p:spPr>
          <a:xfrm>
            <a:off x="3352680" y="4952880"/>
            <a:ext cx="2210040" cy="16002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"/>
          <p:cNvPicPr/>
          <p:nvPr/>
        </p:nvPicPr>
        <p:blipFill>
          <a:blip r:embed="rId3"/>
          <a:stretch/>
        </p:blipFill>
        <p:spPr>
          <a:xfrm>
            <a:off x="5867280" y="4952880"/>
            <a:ext cx="22100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767ff"/>
                </a:solidFill>
                <a:latin typeface="Arial"/>
              </a:rPr>
              <a:t>АУТОИМУНЕ БОЛЕСТИ СА МАНИФЕСТАЦИЈАМА У УСНОЈ ДУПЉ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Кронова 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Аутоимуно обољење танког црева познато као Кронова болест, у устима изазива исте промене као и на зиду танког цр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ацијенти најпре имају асиметрично увећање усана, које нестане, а потом настаје сталан оток усана, развијају се задебљања у подслузокожном сло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сим тога, могу да се појаве фистуле и гнојне упале слузок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838080" y="4724280"/>
            <a:ext cx="2438640" cy="1782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"/>
          <p:cNvPicPr/>
          <p:nvPr/>
        </p:nvPicPr>
        <p:blipFill>
          <a:blip r:embed="rId2"/>
          <a:stretch/>
        </p:blipFill>
        <p:spPr>
          <a:xfrm>
            <a:off x="3581280" y="4724280"/>
            <a:ext cx="2266920" cy="1791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3"/>
          <a:stretch/>
        </p:blipFill>
        <p:spPr>
          <a:xfrm>
            <a:off x="6019920" y="4724280"/>
            <a:ext cx="251460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4617b"/>
                </a:solidFill>
                <a:latin typeface="Calibri"/>
              </a:rPr>
              <a:t>ОРАЛНЕ МАНИФЕСТАЦИЈЕ АКУТНЕ ЛЕУКЕМИЈ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 леукемија је малигна болест хематопоетск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а која се карактерише клоналн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ферацијом и акумулацијом абнормалн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укемијских ћел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ној сржи и инсуфицијентн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поезо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танку акутних леукем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твује више фактора, како наследн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 и фактора средине, од којих су најзначајниј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, радиоактивно зрачење, разни хемијск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си и леков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 леукемија се може јавити у било које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м добу, од фетуса до позне старости,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инциденцом јављања од 3 на 100 00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ни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и симптоми се јављају због анемије,и то су малаксалост, слабост, замарањ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дил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ку су најчешћа крварења коже и слузокоже,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ду петех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ма и сливених хематома,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а десни, коњуктива,итд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ОРАЛНЕ МАНИФЕСТАЦИЈЕ АКУТНЕ ЛЕУК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ралне манифестације имају велики значај за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е оболеле од акутне леукемије. Доста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ата се прво обрати због разних оралних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блема управо стоматологу, који пажљивим 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таљним прегледом може посумњати на акутну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еукемиј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оматолошким прегледом се могу уочити крварења и инфилтрације десни, које су међу првим оралним манифестацијма акутне леукем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рварење које се не зауставља или неочекивани и брзо прогредирајући апсцеси брзо доводе ове пацијенте до хематол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естале бактеријске и гљивичне инфек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наци оралног мукозитиса, који се може манифестовати само еритемом, а у тежим случајевима прогредирати до улцер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"/>
          <p:cNvPicPr/>
          <p:nvPr/>
        </p:nvPicPr>
        <p:blipFill>
          <a:blip r:embed="rId1"/>
          <a:stretch/>
        </p:blipFill>
        <p:spPr>
          <a:xfrm>
            <a:off x="609480" y="4495680"/>
            <a:ext cx="2362320" cy="1629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"/>
          <p:cNvPicPr/>
          <p:nvPr/>
        </p:nvPicPr>
        <p:blipFill>
          <a:blip r:embed="rId2"/>
          <a:stretch/>
        </p:blipFill>
        <p:spPr>
          <a:xfrm>
            <a:off x="3276720" y="4495680"/>
            <a:ext cx="2647800" cy="1648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3"/>
          <a:stretch/>
        </p:blipFill>
        <p:spPr>
          <a:xfrm>
            <a:off x="6248520" y="4495680"/>
            <a:ext cx="23810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99"/>
                </a:solidFill>
                <a:latin typeface="Arial"/>
              </a:rPr>
              <a:t>ЗАКЉУЧ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ЛНА СТАЊА У УСНОЈ ДУПЉИ  НАСТАЈУ НАЈЧЕШЋЕ КАО ПОСЛЕДИЦА УДРУЖЕНИХ БОЛЕ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НАТНО РЕЂЕ ЈЕ РЕЧ О ИЗОЛОВАНИМ ПРОМЕН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 ОБЗИРОМ ДА ЈЕ УСНА ДУПЉА ОДРАЗ ОПШТЕГ ЗДРАВЉА ЧОВЕКА СВАКИ ПРИСТУП ЛЕЧЕЊУ ПРОМЕНА НА СЛУЗОКОЖИ ИЗИСКУЈЕ НАЈЧЕШЋЕ МУЛТИДИСЦИПЛИНАРНИ ПРИСТУ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ОПХОДНО ЈЕ САГЛЕДАТИ ОПШТЕ СТАЊЕ ПАЦИЈЕНТА А НАКОН ТОГА ПРЕДУЗЕТИ КВАЛИТЕТНЕ ДИЈАГНОСТИЧКЕ ПРОЦЕДУРЕ У ЦИЉУ УТВРЂИВАЊА МОДАЛИТЕТА ЛЕЧЕЊА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АКУТНА БОЛНА СТАЊА ПАРОДОНТА 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ПАРОДОНЦИЈ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дон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називају ткива која окружују зуб и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твуј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његовом учвршћивању унутар алвео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дон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у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састоји од четири главна ткива: алвеоларне кости, цемента, пародонт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 лигамента и гингиве. Свако од тих ткива има специфичну улогу у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вршћивањ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уб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веоларна кост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убне чашице (алвеоле) које су лежишта за зубне кор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мент прекрива површину зубног корена и омогућ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вршћивање пародонтних влакана уз кор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донт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н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гамент испуњава простор између зубног корена и алвеоле, у њему су смештена влакна која чврсто повезују корен с алвеол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 кости и преносе жв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терећења на к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нгива је меко ткиво које покрива претходне три структуре и штити их од оштећ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6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ЗУБНА АЛВЕ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убна чашица, или алвеола преставља удубљење у коштаном наставку горње и доње вилице у којој је смештен зуб. Највећи део вилица је изграђен од мекше кости. У њој су усађене алвеоле, које су направљене од нешто компактније кости. Ово је важно јер су периодонтална влакна разапета између алвеоле и цемента зуба и без неопходне чврстине зидова зубне чашице функција ових влакана не би била могућ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јединачне алвеоле су међусобно одељене међузубним преградама (septa interalveolaria). Код предњих зуба чашице су спљоштене у правцу напред назад и имају левкаст облик, док су код бочних зуба оне приближно четвртасте. Код вишекорених зуба присутне су и прегра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septa interradicularia) које раздвајају корено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5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99"/>
                </a:solidFill>
                <a:latin typeface="Arial"/>
              </a:rPr>
              <a:t>ЦЕМЕНТ ЗУБ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Цемент је тврдо ткиво слично кости који у танком слоју прекрива ко</a:t>
            </a:r>
            <a:r>
              <a:rPr b="0" lang="sr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н зу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њега су уложен</a:t>
            </a:r>
            <a:r>
              <a:rPr b="0" lang="sr-Latn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колаген</a:t>
            </a:r>
            <a:r>
              <a:rPr b="0" lang="sr-Latn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лакна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које учвршћују зуб у алвео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ко због пародонт</a:t>
            </a:r>
            <a:r>
              <a:rPr b="0" lang="sr-Latn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лне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болести дође </a:t>
            </a:r>
            <a:r>
              <a:rPr b="0" lang="sr-Latn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штећења цемента, он се надо</a:t>
            </a:r>
            <a:r>
              <a:rPr b="0" lang="sr-Latn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нађује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посебним типом цемента у који се више не могу учврстити колаген</a:t>
            </a:r>
            <a:r>
              <a:rPr b="0" lang="sr-Latn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 влакна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па долази до слабијег придржавања зуба у алвеоли, односно његовог раскл</a:t>
            </a:r>
            <a:r>
              <a:rPr b="0" lang="sr-Latn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ћивања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99"/>
                </a:solidFill>
                <a:latin typeface="Arial"/>
              </a:rPr>
              <a:t>ПАРОДОНТАЛНИ ЛИГАМЕН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родонтални лигамент је везивно ткиво које испуњава простор између зуба и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адр</a:t>
            </a:r>
            <a:r>
              <a:rPr b="0" lang="sr-Latn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и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колагена влакна која су с једне стране причвршћена за кост, а с друге за цемент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ва влакна учвршћују зуб у алвеоли и омогућ</a:t>
            </a:r>
            <a:r>
              <a:rPr b="0" lang="sr-Latn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ва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у прихваћање врло великих сила које се развијају т</a:t>
            </a:r>
            <a:r>
              <a:rPr b="0" lang="sr-Latn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 жвак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3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952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99"/>
                </a:solidFill>
                <a:latin typeface="Arial"/>
              </a:rPr>
              <a:t>ГИНГИ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ингива је слуз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ожа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којом је покривена алвеоларна кост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з сам врат зуба гингива обликује тзв. 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ителн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инсерцију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кој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штити пародонт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лни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лигамент од ут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цаја из усне 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упље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право ово ткиво је прво оштећено код пародонтитиса а његово оштећење омогућ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ва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продор бактеријама у пародонт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лни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лигаме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ингива је мастикаторна слуз</a:t>
            </a:r>
            <a:r>
              <a:rPr b="0" lang="sr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ожа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која прекрива алвеоларне наставке горње и доње вилиц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ли се на слободну (маргиналну) и припојну гингив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ободна гингива облаже врат зуба, обично је светлољубичасте боје, таласаста је и висока око 0,5-2</a:t>
            </a:r>
            <a:r>
              <a:rPr b="0" lang="sr-Latn-C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стор између гингиве и зуба назива се гингивални сулку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апикалном смјеру слободна прелази у припојну гингиву, која је чврсто припојена за подлогу и нешто црвенија у односу на слободну гингив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99"/>
                </a:solidFill>
                <a:latin typeface="Arial"/>
              </a:rPr>
              <a:t>БОЛЕСТИ ПАРОДОНЦ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419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лести пародонта су упална стања код којих долази до разарања ткива која учвршћују зубе,</a:t>
            </a:r>
            <a:r>
              <a:rPr b="0" lang="sr-C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ингив</a:t>
            </a:r>
            <a:r>
              <a:rPr b="0" lang="sr-C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кости и пародонталн</a:t>
            </a:r>
            <a:r>
              <a:rPr b="0" lang="sr-C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лигам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палне промене гингиве</a:t>
            </a:r>
            <a:r>
              <a:rPr b="0" lang="sr-Latn-C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зивамо гингивитис, а ако упала захва</a:t>
            </a:r>
            <a:r>
              <a:rPr b="0" lang="sr-Latn-C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 дубље структуре пародонта говоримо о пародонтити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зрок настанка ових болести у првом реду је лоша орална хигијена усне шупљине, односно накупљање бактерија (плака), затим зубни каменац, заостала храна те лош</a:t>
            </a:r>
            <a:r>
              <a:rPr b="0" lang="sr-C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протетск</a:t>
            </a:r>
            <a:r>
              <a:rPr b="0" lang="sr-C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над</a:t>
            </a:r>
            <a:r>
              <a:rPr b="0" lang="sr-C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наде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акође се болести пародонта могу јавити као последица неких с</a:t>
            </a:r>
            <a:r>
              <a:rPr b="0" lang="sr-Latn-C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авних болести (шећерна болест, леукемија, АИДС и др.) или  због неких лоших навика као што је  пушење цигарета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6" descr=""/>
          <p:cNvPicPr/>
          <p:nvPr/>
        </p:nvPicPr>
        <p:blipFill>
          <a:blip r:embed="rId1"/>
          <a:stretch/>
        </p:blipFill>
        <p:spPr>
          <a:xfrm>
            <a:off x="4876920" y="2440080"/>
            <a:ext cx="3740040" cy="222408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7"/>
          <p:cNvSpPr/>
          <p:nvPr/>
        </p:nvSpPr>
        <p:spPr>
          <a:xfrm>
            <a:off x="5340240" y="5029200"/>
            <a:ext cx="334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Здрав пародонциј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Гингивит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Рани пародонтит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Узнапредовали пародонтит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ПАТОФИЗИОЛОГИЈА ПАРОДОНТ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572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д се бактерије на</a:t>
            </a:r>
            <a:r>
              <a:rPr b="0" lang="sr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ђ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испод </a:t>
            </a:r>
            <a:r>
              <a:rPr b="0" lang="sr-Latn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ивоа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епителн</a:t>
            </a:r>
            <a:r>
              <a:rPr b="0" lang="sr-Latn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 инсерције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тамо стварају  субгингивни пла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актерије заштићене унутар субгингивног плака несметано расту и размножавају се, а плак дел</a:t>
            </a:r>
            <a:r>
              <a:rPr b="0" lang="sr-Latn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ично минерализ</a:t>
            </a:r>
            <a:r>
              <a:rPr b="0" lang="sr-Latn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је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па настаје субгингивни каменац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бгингивни плак и каменац омогућ</a:t>
            </a:r>
            <a:r>
              <a:rPr b="0" lang="sr-Latn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ва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у развој великог броја бактерија у подручју испод </a:t>
            </a:r>
            <a:r>
              <a:rPr b="0" lang="sr-Latn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ивоа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гингиве, у гингивном џеп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ловањем бактеријских ензима и токсина, али и властитог обрамбеног одговора, поступно долази до оштећења дубљих пародонтн</a:t>
            </a:r>
            <a:r>
              <a:rPr b="0" lang="sr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алних </a:t>
            </a:r>
            <a:r>
              <a:rPr b="0" lang="sr-Latn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тки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лвеоларна кост се ресорбује и алвеола постаје све плића, а пародонтална влакна се разграђују и одвајају од св</a:t>
            </a:r>
            <a:r>
              <a:rPr b="0" lang="sr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г</a:t>
            </a:r>
            <a:r>
              <a:rPr b="0" lang="sr-Latn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припоја на корену и алвеоларној к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ако зуб губи састав који га учвршћује у његовом лежишту, а када оштећења постану довољно велика, потпора зуба слаби и он постаје покрета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љим напредовањем бактерија у дубину и разарањем кости око корена зуба, ствара се коштани џе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недостатку механичке хигијене, једина могућа обрана од бактерија у џепу је упални одгово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тензивна упална реакција узрокује додатна оштећења кости и пародонтног лигамента те омогућава продубљивање коштаног џе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ki</cp:lastModifiedBy>
  <dcterms:modified xsi:type="dcterms:W3CDTF">2015-06-15T08:51:5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